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0689-FC2D-404E-838B-E2EC25AA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35F6-D264-43DE-B4F1-6FC885BB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E64A-3B45-478B-A1A5-E1622C92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EB41-9758-4567-B3C1-CB6D9F64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348D-7D18-4D7D-A552-C691F139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D079-3D03-4501-9D3B-632B0BA3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9A01-D487-497C-B319-3396421C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CE6A-D109-44CB-BAB8-13238FAF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F4B4-8F78-4078-9334-7DBB4258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308D-00BC-4B9D-A8B5-F431EB7E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7258-F509-4A16-A9F0-9C810A57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E4C8-947B-4158-86C1-434A606B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7573-4BFC-45A7-80CE-9B115B80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5667-4110-4F39-9AD9-E21D05E1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B962-C577-4C15-9849-A8BB01D4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FC54-6CD5-41E5-97DA-4191A05B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27F6-C74D-455D-A206-8DF44796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EEED4-4F98-4A8A-83C8-97598DEA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EAD7A-74CD-44BD-8B93-0995EFA4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0C998-5E90-4F08-AC76-39CD2E8B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0CF3B-6FB7-45E4-B1AB-2D98AB33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14A08-0B3F-4E8A-B105-1BB8D285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4F4B-2D7B-4E65-8D30-F932EA7F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DEE99-EEC0-4ACF-B9C1-F22FEF3D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25EB5-050B-498D-8268-D2A2941D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164DC-AD4E-438C-910F-136C72BB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CEAED-8D93-438D-A8CD-09223C02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749C2-2900-477B-BBB4-444C5E22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1B129-7181-44AC-A481-0C9F5130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A7F1C-7BA8-48AF-979F-085767CC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BBD67-8EB7-4951-9C64-C4F72513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66624-4547-4157-B35E-AF9B9B75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E7D02-BBC0-46D6-8D81-35BFDB7E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27CF-DA57-4594-B1EA-5504004B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97F14-BF3C-4412-9ECE-0715DA93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F8997-4A5F-4010-A71D-0547E989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95EB7-4B66-4E25-B8C6-1661D8C6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7643C-E0C0-4388-ABD5-4F91B9FE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6D81C-BAF3-4992-80A5-DECB672E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5B70F-D164-40BC-BE51-1D3D18A3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E4D02-2AC4-4359-AD44-C68D2C3D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B5425-EC59-4729-9651-D09F07CC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4872C-8E9B-4B4F-8BE2-EBDA3E1F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ED1E-E4AA-4844-A887-F3E5EACD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0FCD-1C15-416E-B60B-004AF343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F93F-2D32-475E-9181-65632751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D30F-4262-4A21-B477-66803110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48EF-C608-4C60-890C-B053F97C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11D8-521D-4399-A7C6-46892DAE1BF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3B78-6028-46FC-B658-36567A063BF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5F8F-3944-4E3F-8D23-34742E52110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A06D-A86D-450C-B311-91FAEDCD114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8" descr="http://www.tamaqua.k12.pa.us/62602081574728870/lib/62602081574728870/math01.gif"/>
          <p:cNvPicPr/>
          <p:nvPr/>
        </p:nvPicPr>
        <p:blipFill>
          <a:blip r:embed="rId1"/>
          <a:stretch/>
        </p:blipFill>
        <p:spPr>
          <a:xfrm>
            <a:off x="380880" y="1066680"/>
            <a:ext cx="7925040" cy="5546880"/>
          </a:xfrm>
          <a:prstGeom prst="rect">
            <a:avLst/>
          </a:prstGeom>
          <a:ln w="0">
            <a:noFill/>
          </a:ln>
        </p:spPr>
      </p:pic>
      <p:sp>
        <p:nvSpPr>
          <p:cNvPr id="196" name="TextBox 6"/>
          <p:cNvSpPr/>
          <p:nvPr/>
        </p:nvSpPr>
        <p:spPr>
          <a:xfrm>
            <a:off x="-533520" y="152280"/>
            <a:ext cx="1028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Lucida Handwriting"/>
              </a:rPr>
              <a:t>BASICS OF MAT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7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FINDING THE LCM AND GCF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LCM- Least Common Multipl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Factor the numbers and place them in a chart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Circle the largest product of each set of numbers( prime numbers)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LCM AND GCF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Multiply the numbers( the answer will be equal to or greater than the largest number given)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9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GCF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GCF- Greatest Common Factor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Factor the numbers and place the answer in a char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Circle the smallest product in each set of numbers that are in common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CONVERTING FRAC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Conversion #1- to change an improper fraction to a mixed number or whole number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Numerator divided by the denominator  and write the remainder as a fraction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r" rtl="1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Conversion #2- convert a mixed number or whole number to an improper fraction</a:t>
            </a: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Multiply the whole number times the denominator and add the numerator. The denominator stays the same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5000" spc="-1" strike="noStrike">
              <a:solidFill>
                <a:srgbClr val="04617b"/>
              </a:solidFill>
              <a:latin typeface="Calibri"/>
              <a:ea typeface="Traditional Arabic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r" rtl="1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Conversion #3- Building equivalent fractions</a:t>
            </a: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r" rtl="1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Divide the new denominator by the original denominator and multiply the answer by the original numerator to place the fraction in higher terms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5000" spc="-1" strike="noStrike">
              <a:solidFill>
                <a:srgbClr val="04617b"/>
              </a:solidFill>
              <a:latin typeface="Calibri"/>
              <a:ea typeface="Traditional Arabic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Conversion #4- Simplest form or Reducing fractions</a:t>
            </a: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Prime factor the numerator and denominator then cancel the common numbers. Multiply the top and bottom to finish reducing</a:t>
            </a: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1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ADDITION OF FRAC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Find the LCM(LCD) of the denominators. Use the LCM process, if needed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Place the fractions in higher terms (conv. # 3)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2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ADDI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Add the numerators ONLY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Place the answer in simplest form by using conversions # 1 and/or #4. You may use one , both, or neither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Add the whole numbers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13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SUBTRACTION OF FRACTIO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Find the LCM(LCD) of the denominators. Use the LCM process, if needed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Place the fractions in higher terms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WHOLE NUMB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Memorize the place values from ones(units) through trillions to see the pattern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Write 26,709 in standard form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Twenty-six thousand seven hundred nin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4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SUBTRA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Subtract the numerators, borrow if needed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Reduce , if needed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Subtract the whole numbers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5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MULTIPLYING FRAC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Change the mixed nos. or whole nos. to improper fractions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arly reducing ( cross-cancel)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Multiply numerators and denominators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Change improper to mixed nos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6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DIVISION OF FRAC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Change mixed nos. or whole nos. to improper fractions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Change division to multiplication and invert the fraction after the divided by symbol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7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DI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arly-reducing(cross-cancel)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Multiply numerators and denominator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Change an improper fraction to a mixed no. and reduce the proper fractio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8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Order Re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To compare two fractions with different denominators; find the common denominator, place the fractions in higher terms, then compare the numerators and place the correct inequality symbol between the fractions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9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Order of Oper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Use PEMDAS the same way as Chapter 1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P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- (……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E -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M- 3*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D - 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A- 5+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S -  5-3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152388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1219320" y="3733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70c0"/>
                </a:solidFill>
                <a:latin typeface="Times New Roman"/>
                <a:ea typeface="Majalla UI"/>
              </a:rPr>
              <a:t>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1600200" y="3809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Solving for the Unknow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If the variable and fraction are connected by addition use subtraction in both sides of the equation to solve the unknown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If they are connected by subtraction use addition on both sides to solve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If the variable and unknown are connected by multiplication use division on both sides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21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Addition and Subtraction of Decimal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Add and subtract decimals just the same as whole numbers and place the decimal point in the answer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22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Multiplying Decima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Count the total number of place values in all of the numbers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Set the problem up like whole numbers and multiply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Move the decimal point from right to left in the answer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23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Division of Decima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Make the divisor a whole number by moving the decimal point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Move the decimal point the same number of places on the dividend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Divide the same as whole number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Write five thousand forty-four in standard form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5,044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Write 200,493 in expanded form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200,000+400+90+3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24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Converting a Fraction to a Decima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To change a fraction to a decimal: NUMERATOR divided by the DENOMINATOR. Round if asked to in the directions or the answer will termina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Change a Decimal to a Frac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Write the decimal as a fraction by using a multiple of 10 in the denominator and the number part in the numerator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Reduce the answer if possible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26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Change a Decimal with a Fraction to a Frac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Drop the decimal point and multiply the mixed number times 1 over 100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27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Ratios and R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Ratio- A comparison of two quantities with the same units( apples to apples…etc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Write the ratio as a fraction in simplest form(reduce) then with a colon (: ) and the word ( to )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Rate- A comparison of two quantities that different units( apples to oranges…etc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Write as a fraction and reduce then STOP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28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Unit R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Unit Rate- A comparison of two quantities that have different units per 1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Write the unit rate as a rate(fraction) then divide: NUMERATOR divided by the DENOMINATOR. This will make the answer per 1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Label the answer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29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Proportio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Proving the proportion True or Not True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Cross-multiply: If the answers are the same it is a True (T) proportion. If the answers are not the same it is a Not True (NT) proportion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Solve for n: Cross-multiply the common numbers and divide the number across from n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rtl="1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30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More Propor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Word problems: Write the two rates with like units in both numerators and like units in both denominators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Cross-multiply and divide the number across from n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31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nverting Between Fractions, Decimals, and Percent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Change a percent to a decimal (then to a fraction)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Move the decimal point TWO places from left to right and drop the percent symbol. Multiply by 0.01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Change the decimal to a fraction and reduce if need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32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Change a Decimal to a Percent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To change a decimal: Move the decimal point TWO places from left to right or multiply by 100%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If the decimal has a fraction move the decimal point TWO places from left to right and drop the decimal point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33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Change a Fraction to a Percent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Change the fraction to a decimal ( numerator divided by denominator) first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Move the decimal point TWO places from left to right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In the division, if the answer does not terminate by hundredths, write the remainder as a fraction in simplest form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MULYIPLYING WHOLE NUMB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Memorize the multiplication table up to 12 x 12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Factors- numbers that are multiplied together to equal a PRODUCT( the answer to a multiplication problem)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08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Round to the nearest tenth ( of a percent )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Change the fraction to a decimal to the ten-thousandths place value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Move the decimal point TWO places from left to right and round the percent to the nearest tenth of a percen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34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Change a Percent with a Fraction to a Frac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If the percent has a fraction in it: Drop the % symbol and multiply by 1 OVER 100 to convert to a frac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From</a:t>
            </a: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050"/>
                </a:solidFill>
                <a:uFillTx/>
                <a:latin typeface="Constantia"/>
              </a:rPr>
              <a:t>www.csi.edu/facultyAndStaff_/.../sites/.../</a:t>
            </a:r>
            <a:r>
              <a:rPr b="1" lang="en-US" sz="1800" spc="-1" strike="noStrike" u="sng">
                <a:solidFill>
                  <a:srgbClr val="00b050"/>
                </a:solidFill>
                <a:uFillTx/>
                <a:latin typeface="Constantia"/>
              </a:rPr>
              <a:t>math</a:t>
            </a:r>
            <a:r>
              <a:rPr b="0" lang="en-US" sz="1800" spc="-1" strike="noStrike" u="sng">
                <a:solidFill>
                  <a:srgbClr val="00b050"/>
                </a:solidFill>
                <a:uFillTx/>
                <a:latin typeface="Constantia"/>
              </a:rPr>
              <a:t>%20009%20slides.ppt</a:t>
            </a:r>
            <a:r>
              <a:rPr b="0" lang="en-US" sz="1800" spc="-1" strike="noStrike" u="sng">
                <a:solidFill>
                  <a:srgbClr val="00b050"/>
                </a:solidFill>
                <a:uFillTx/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838080" y="4572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Lucida Handwriting"/>
              </a:rPr>
              <a:t>By : Manar Al- Shahra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Lucida Handwriting"/>
              </a:rPr>
              <a:t>Grade :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Lucida Handwriting"/>
              </a:rPr>
              <a:t> </a:t>
            </a:r>
            <a:r>
              <a:rPr b="0" lang="en-US" sz="3600" spc="-1" strike="noStrike">
                <a:solidFill>
                  <a:srgbClr val="00b0f0"/>
                </a:solidFill>
                <a:latin typeface="Wingdings"/>
                <a:ea typeface="Wingdings"/>
              </a:rPr>
              <a:t></a:t>
            </a:r>
            <a:r>
              <a:rPr b="0" lang="en-US" sz="3600" spc="-1" strike="noStrike">
                <a:solidFill>
                  <a:srgbClr val="00b0f0"/>
                </a:solidFill>
                <a:latin typeface="Lucida Handwriting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DIVISION OF WHOLE NUMB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Division is used to separate objects into equal groups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Quotient- the answer to a division problem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Most mistakes in division are made in the subtraction portion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EXPON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Base- the number being multiplied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xponent- the number to the top right of the base telling you how many times the number by itself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ORDER OF OPERATIONS AGREEMENT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Do all operations inside parentheses( other grouping symbols as well)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Solve exponen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Multiply and divide as they occur from left to right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#2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- 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is the number an even number? Yes- start with 2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N0- go to question #3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Add the digits of the number together, if the answer is divisible by 3-Yes- start with 3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990720" y="68580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6.PRIME FAC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No- go to question #4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Does the number end with a 5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? 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Yes- start with 5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  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N0- start with 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7 and continue until a prime number works ( hit or miss)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1371600" y="53352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6.PRIME FAC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9T20:47:02Z</dcterms:created>
  <dc:creator>Jim Dawson</dc:creator>
  <dc:description/>
  <dc:language>en-US</dc:language>
  <cp:lastModifiedBy>Abdulaziz Al-Shahrani</cp:lastModifiedBy>
  <dcterms:modified xsi:type="dcterms:W3CDTF">2010-12-23T15:19:04Z</dcterms:modified>
  <cp:revision>71</cp:revision>
  <dc:subject/>
  <dc:title>PowerPoint Presentation</dc:title>
</cp:coreProperties>
</file>